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172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3D2B-77C9-43E1-8C7E-0E82CE7ED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72AF-4602-4567-AAAB-E4ED0B033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444E-01EF-4029-BD6A-2426D801E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A7C1-A7EB-4176-B3C7-FA9B780D8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00D0-79FA-4802-930B-26B9ECC74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A0C5-2B26-440A-A7E1-CBAEE8E8C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BB79-CC39-43EE-8B82-846D9E9AE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53D7-204E-40C8-B522-6E3019A06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1ADD-54D2-4ADA-8B8B-FB8ADC7F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23CF-6096-4EC8-829F-A000A635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4DB2-E64F-4ECF-B95B-99A5ADAE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3EA2-E303-47F7-946E-BC48E836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FC1D-E41E-434B-8CA0-8D294678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BF14-3D58-46E1-A104-1860BA4A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3A9E-B050-415D-AF65-E4F585B1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683B-1015-479D-991B-FC397A14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BE8-D87F-45C0-948F-FCA881E8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D192-E35B-4B61-A1DF-01F59D99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55F-2B39-4CAD-A27D-88250BD4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5FF4-C061-41B7-8DF1-D1492925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C3B5-71A5-4228-B594-ED92D2C121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 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Relationship between agricultural biodiversity and dietary diversity of children aged 6-36 months in rural areas of Northern Ghana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SENTED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 Mahama Saaka (Ph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DS, School of Allied Health Sciences- Ta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action term was statistically significant [β = -0.16 (95% CI: -0.21, -0.004, p = 0.042)] and this confirms that the relationship between production diversity and dietary diversity scores differs according to the socioeconomic status of the child’s househo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from households of high wealth index had mean dietary diversity score which was 0.06 standard units significantly higher than their counterparts from households of lower wealth index [β = 0.06 (95% CI: 0.04, 0.51)]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onclusion and Recommend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tudy provided evidence that increased agricultural biodiversity positively associated with dietary diversity of preschool children but this relationship was moderated by socioeconomic status of the child’s household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onclusion and Recommend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refore recommended that the Ministry of Agriculture and related organizations should take steps to train/educate rural farmers on agricultural biodiversity especially the poor 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OF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udy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ational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&amp;Purp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 a positive relationship between biodiversity and nutrition appears to be evident from a number of studies, more research is needed to better understand in which socio-ecological settings and contexts do biodiversity and nutritional and dietary outcomes relate and which factors mediate the relationshi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udy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ational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&amp;Purp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aper investigated whether and how biodiversity contributes to diversified diets of children and how economic factors interact with biodiversity to mediate consumption of nutrient dense fo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Study Design, study Population and Sampl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per is based on analysis of data which was collected in a base-line cross-sectional survey from 50 communities located in five districts of Northern Gh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udy population comprised mothers/primary caregivers and their children who were selected using a two-stage cluster sampling procedu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Study Design, study Population and Sampling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tary diversity was derived from a semi-quantitative 24-hour food recal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crop and livestock species produced on a farm was used as the measure of production divers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Study Design, study Population and Sampl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archical regression analysis was used to identify predictors and test for interac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tion analyses were used to assess whether socioeconomic status of the household mediates the link between agricultural biodiversity and dietary diversity of child’ di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s</a:t>
            </a:r>
            <a:br>
              <a:rPr sz="36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 positive relationship between agricultural biodiversity (variety of animals kept and plants grown for food) and the diversity of child’s di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er children (24-36 months), high agricultural biodiversity, small household size and households of higher household wealth index were consistent predicto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rongest predictor was child’s age with a standardized beta (β) weight of 0.45, p &lt; 0.001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econd highest contributor was production diversity with beta (β) weight of 0.25, p = 0.00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oeconomic status of the household did not mediate the link between agricultural biodiversity and dietary diversity of child’ diet. Rather, it interacted with agricultural biodiversity on dietary diversity of chi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22:30:10Z</dcterms:created>
  <dc:creator>Amy</dc:creator>
  <dc:description/>
  <dc:language>en-US</dc:language>
  <cp:lastModifiedBy>mahama Saaka</cp:lastModifiedBy>
  <dcterms:modified xsi:type="dcterms:W3CDTF">2016-12-12T11:57:53Z</dcterms:modified>
  <cp:revision>1464</cp:revision>
  <dc:subject/>
  <dc:title>Gastroenteritis at a University in Texas</dc:title>
</cp:coreProperties>
</file>